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92585"/>
        <c:axId val="53236394"/>
      </c:barChart>
      <c:catAx>
        <c:axId val="26192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36394"/>
        <c:crosses val="autoZero"/>
        <c:auto val="1"/>
        <c:lblAlgn val="ctr"/>
        <c:lblOffset val="100"/>
        <c:noMultiLvlLbl val="0"/>
      </c:catAx>
      <c:valAx>
        <c:axId val="53236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92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F25-3B3E-4399-B7C3-2334BB22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6BB-BB01-4681-B441-AD39A9D9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A80-E0DE-49B8-A514-790273AD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188-960A-43B0-927C-73A041BF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225-2949-4EA8-A2EF-DB491843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AC9-316D-4D82-9B7C-91AB9C3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68D-F25C-468C-93CB-38FB9384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627-AC27-4D4B-861F-8AF1739C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1CB-7CD6-44FE-8C7B-4C3D8ABA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2DF-3C76-41A5-BC14-AA39A9FF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716-0317-40B5-B3F2-9E466B94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2D6A-13BE-4921-B533-F24210E0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23A36-E3DE-4794-B97F-AEA32A2287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