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31408"/>
        <c:axId val="41351908"/>
      </c:barChart>
      <c:catAx>
        <c:axId val="43331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51908"/>
        <c:crosses val="autoZero"/>
        <c:auto val="1"/>
        <c:lblAlgn val="ctr"/>
        <c:lblOffset val="100"/>
        <c:noMultiLvlLbl val="0"/>
      </c:catAx>
      <c:valAx>
        <c:axId val="41351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31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2CE-0E94-4BB4-A782-524A4A09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0DB-FF9D-417B-8AC1-0CE360D3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AB6-C95A-4A18-97EC-195CCEC3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133-7A63-4316-AC50-E92F623D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4C3-B4A5-47D4-ADB3-0131D62B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536-123B-4BD8-A2A4-A8623088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52F-D66E-49AD-B1ED-DFE5C903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DED-216A-48A9-8A71-52B99E3C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E8D-0C0C-450B-9D55-47D56FFF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2CF-2711-4222-87B7-D2BD2A16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05C-5331-4E72-8F9C-E05A2D18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EB7-9FED-43FB-8DC8-10E05FBF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5AC93-CC5F-4B44-B004-E82E2B9488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