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45461"/>
        <c:axId val="57833426"/>
      </c:barChart>
      <c:catAx>
        <c:axId val="11845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33426"/>
        <c:crosses val="autoZero"/>
        <c:auto val="1"/>
        <c:lblAlgn val="ctr"/>
        <c:lblOffset val="100"/>
        <c:noMultiLvlLbl val="0"/>
      </c:catAx>
      <c:valAx>
        <c:axId val="57833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45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089-3248-4745-9A6A-9114C579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C683-C0F7-471E-BF75-1E12808B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0C6-5A5A-422F-87A5-F6B7DD0F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6B1-CD6F-4A2C-B32A-017FAD43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BCB-1D39-4894-A4F7-212E5498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6BC-515A-46BE-A64D-4C9ACABB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D12-A09D-4191-A8F2-E9B6A907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CFC-ACE3-4737-8D5A-9BD71879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0CC-A589-47F3-851E-2D4E6FE8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E2D-421C-4B46-85C5-D48D8FFA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501-681D-4C0B-8EEE-0057A9D1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95D-19E4-4805-8C6D-450CADB8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980FF-A2A3-40D4-94C8-1650FA0FB8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