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30114"/>
        <c:axId val="51919307"/>
      </c:barChart>
      <c:catAx>
        <c:axId val="214301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19307"/>
        <c:crosses val="autoZero"/>
        <c:auto val="1"/>
        <c:lblAlgn val="ctr"/>
        <c:lblOffset val="100"/>
        <c:noMultiLvlLbl val="0"/>
      </c:catAx>
      <c:valAx>
        <c:axId val="51919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301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B4E-4ECA-4B20-8CF4-C5ACF979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F27-ED50-4F1B-A90D-B755952E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235-41D2-4E2B-831D-F04A640E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A23A-785F-48CB-9EC6-BF0B1956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6FB4-1D36-4598-A90A-CC4D67DF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4D9-80FA-44BE-8C97-108A2CAD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20C-5C43-431D-BAF3-A851BF91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28D-6750-48CB-8BD0-E64BB352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26D-0C1D-45B3-885D-5103CA2E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075-6D74-403A-8CCD-DE6D1309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7A3-29F6-49DB-A06B-26D44419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6CA-D0E0-4591-A15F-C05CBACC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DCAAA-52CD-485D-8022-88CDE3CA06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