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566B78-A661-47C7-B2DE-C89F7EF281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026E9F-E81B-45F7-82BE-522386F2A8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EA84F4-CA42-4DCC-BA39-9AD1A04439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57EB7B-CCAC-4E7B-9A5F-765902B62D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2DA740-5737-42A0-B0E4-E9C372A9950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EC6F35-3F35-486E-BAB7-F3FFAE422D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81CD26-399C-47A8-B309-BE6E9D75E4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58D13D-CC0D-4183-844D-A0138D6B88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317629-0469-47FF-A64E-63F4C3CF36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4009F3-BD9F-45AD-90E4-43C0D4A070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461842-E344-4868-8AC1-9E05CD49CD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9DBEA3-807E-4E25-B564-10789A3E8C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4758C9-45D2-4C58-A4E2-80BE36F917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63F4FA-4DA6-4B28-B485-726DDF8125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678EA3-2D8A-4B00-B35B-2D3249EE66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513F07-C535-4480-9CA6-432A44BDB7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6EC88A-BDED-4CB5-AE2C-C4750F8BC3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D38709-71F4-4128-A063-BBD65C97CB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40C538-0296-4D06-BFC3-85349F502C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90D037-CAA6-4186-B5EC-8FD473DA40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79A7F5-7EC6-4939-98DE-F54A2D8744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5BAF4D-60B2-4002-A51A-450C40101A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B7CE99-4F54-42CF-9501-9E30D73961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12FAA5-E320-42B9-BC62-9AACEE155A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9D3C4-57C0-4D9B-AEC4-BA344FD3F29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73085-ACD2-4AAA-A398-E17877469AE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500AF96-0817-49D4-8FE0-C88D8975B40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20F2893-F1C7-43AC-B6C1-3AB4ECB1340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9E1DB7-8C22-4E60-B422-3F3EBE551A4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682FE9-66D8-440B-AD8D-091B53A59FA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AC770A-B8EB-4E21-8EDD-6D10F49D417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7E8A34-58AF-4B08-8C81-4DA90789DF7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7F3392-0373-43A8-AA92-08BBD1FA230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27250E-C740-4A26-AB45-B2044400B51D}"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C3A95A-7157-4483-90D0-4D82A31536DA}"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B3988F-2174-4C5B-A4B9-4723CDB2E25F}"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BDB80B-7A48-46C0-95E5-D2BCCD8E707A}"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D7480E-4FB4-4A8E-AF4E-22A1C76E2FEF}"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3398AD-6FD5-4776-9B4A-8C38BB6766CC}"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1049F1-26D7-45E1-828D-0D078819576C}"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F69515-3BA7-4E2A-9BBA-4EE17DC5DFF2}"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A5F1C7-9E53-4B24-A575-D5920C6FEDDA}"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292AB0-1DBF-42DC-AC77-E7A919F6E0C2}"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4F4D39-CCA5-498A-8FB0-E38DD0D7E04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EC5A53-7136-442B-A6F5-62D92B1C6D34}"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B9E612-0A16-4380-81EF-0CB129937D91}"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D5BB0E-FBD0-4605-BB21-4A3E36FB6D12}"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3FB599-6CF5-4E69-A4C5-CD3B5953CD9B}"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DF2878-EA02-4F5B-A02B-16A0465D930D}"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A31D6A-3B20-480D-8AB6-C10307E94A1B}"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AA64BB-11FC-4408-A52B-D4AFED6DBD4F}"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B5CC96-4BE5-49EF-8EAC-9159377F90DA}"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B0CB80-794F-433D-A28E-C3CF58B063AD}"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5236C98-F835-4A0D-9C15-53CCFDB47480}"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CCDB97-77E4-49F2-91D4-3FFABCBBCE64}"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8216F4-BC81-4F26-9086-49A6C990CD29}"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DF8E3E-352D-42AE-A35E-3E4354E51930}"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5D7661-1BE6-4CBB-BD85-3F0B4A565762}"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C2F41B-6684-43C9-A68B-9B418C8CCEE5}"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F0146B-A31C-42E6-BFFD-14125D810D4B}"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09AC67-6607-4841-88B5-D61F5F9E1C69}"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60D506-C69D-48B0-99B2-D9F163290094}"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8474F2-6976-4DD8-8C22-DBCC438F24A8}"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B9F1F9-DA79-4132-8C64-18FAE122F791}"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A6D466-6C1F-4105-B241-6E34D3A776CA}"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B103A7-C22B-4B67-A06A-65C6A642017C}"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11BC80-95A6-41BA-A674-EFC165B6B88B}"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C931DC-9F48-488D-BC07-D5878BB6D21B}"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C4643B-1F74-4583-94C4-34F2E284993A}"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B58223-E2D0-4508-8FB7-1FE2E139F0CE}"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95B48E-FAC2-4DEE-AD54-876ED4C46E2E}"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A14268-BD5E-4555-94FA-803146A573B8}"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C0A406-101F-4B18-8C85-A5247C6E62CA}"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F0EFEC-D48F-42B2-AB7F-3641226C1863}"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D7F9A8C-AFBD-44B4-BFAE-4B736537D3E2}"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83E7FB-9AEB-4832-B840-91D0FC0FC15C}"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BDD737-5F49-4DFC-B33F-73D8B281940A}"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3B4BDC1-0185-48E8-883F-9F730404FFBB}"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CC843C-3A3E-434C-8E32-A315D0340429}"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7C80C2-E89B-4287-9587-4A9D54AF46B3}"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6E0EB4-BCA9-45D3-8A25-923F22AA0903}"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B2E5F1-5439-4F17-A19E-B8071EB7E3F4}"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F48240-9ADC-4391-A090-786175F0CB5A}"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324C4F-7B68-409D-903D-6A469FC8BC8A}"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FCB60F-7166-47D3-9E19-503AAE1B4859}"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6AF8C91-3C36-4CED-8343-13C258EFA324}"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301A64-B8F2-4041-81B8-118862049C22}"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138CC4-4053-4CBE-B9F2-0BC22CB86A43}"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D69E9E-81B7-4845-BE39-E243ECBFCB73}"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2890A2-7F54-47C0-9883-C057D8E1B454}"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5CCBCB-290D-44FE-BB80-8062DA08354E}"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30E32C7-297F-43AA-9C59-B04F7BBC84ED}"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D733CB-DA7C-4B7A-86E5-C6556FFDFC7C}"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96FAE8-5932-4B21-8CFA-47DCEAE3BF37}"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6FE004-63AA-4933-9E68-CDFACFF99C82}"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5B4E6C-2DA5-42EE-B86C-5D9E7D2CC81D}"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4D68D46-854E-47CA-9844-B466C7AF655D}"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E235E7-AF59-41D2-8D3C-778008B0831F}"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4632F3-FB48-45D0-B1E0-11E8E09B4C7D}"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DB4507-6F40-4003-9E56-EFE2685E002F}"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69201C-272E-4D5A-8FB6-F919FD963007}"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E77E69-E532-47F4-B940-69D689619C18}"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798ABC-9E2D-41A4-8F0E-4ABE52F5EA45}"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DCC1385-D231-4A76-8163-316665E452AE}"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8AE7CF-1F0A-47DE-9DC5-8D96B05B56C4}"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92811F-E5A0-4C22-B555-4CC4F86CBE05}"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CDF3E2-2DA6-4F47-A184-13C08E87657E}"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D4C213C-A6EC-4D73-8CFF-5772FBD7A4D4}"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A39B8D-5916-44EE-A577-584A1404A4EC}"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EB1C484-77E0-4658-A452-704A40DBB420}"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6987F6-33EC-4223-93E8-7AED8A858B40}"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4FA087-C754-4B9C-A1E6-E7AA879C0967}"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693C42-D13F-420B-80F9-D63A61F0476D}"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69FBCC-B427-4F6B-AFE4-78B16A0866E6}"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958E52-11E9-4E69-9336-4A56EC7E504F}"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079652-2701-4E9B-9A9D-383B6AC4480E}"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3C6FB8-74B9-4CE8-AF71-D2A1AD96D192}"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F385E4-37EA-4FA9-9588-4127B277BBD1}"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20830D-8CE1-4E68-A67A-0A9DABBB6C92}"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05B84E-7A7A-442C-B62B-3A3C9293AD29}"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4685C9-594E-4B71-BA81-BDE3ED896F7A}"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59E923-DEC0-4AD1-B9B3-E922C5700277}"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928B27-DD38-4FDF-9CE9-49AEE4BAD7DF}"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059D13-6DCE-45D7-8E36-547E71FF5310}"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781CE1-3E32-4D38-9E1A-517F3C17FE59}"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93631CB-1CC0-4468-BB40-76D949DB9B77}"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F3460C-8844-4D5C-A27C-87F561E2ACC0}"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600314-7CCB-4A8E-92B8-B97901F471AA}"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6C03D3-233E-4174-A41C-8A1E9C7A13C1}"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DFB461-B285-4643-BECB-FDA21DB68203}"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EC6DC2-F5B1-4811-8EBE-09457D0E9E92}"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E244E3-CF9A-4A05-B22D-5E9927A402BE}"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309108-6E31-470C-A96F-7B356F88750F}"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C3A5E8-0831-410B-B672-C78A9F38CA39}"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2FF419-C1CA-4BE1-A168-1E1E3C39AB16}"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79A4E6-02B5-416D-9667-DCC65AAD984C}"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087450-B4D7-4DA0-A529-78CCA70C30A6}"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A5153A-FD30-4BC8-A21A-20A68A88854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6DC0D2-F25C-4364-A3BD-6BB7686FB0F7}"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2E2C3E-9534-4FD2-9D1E-0EFD7F138FB8}"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327442-38D5-4737-AB71-A1F9C26EE4D8}"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EAF64C-8425-4800-94C3-BEC79D7906CF}"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28AD26-5A7A-4FE4-9B09-7F2C38F0E189}"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5DFFF6-D124-45FE-8987-5B04067096C9}"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9B83DD-2A82-47F9-B66C-648A5966D33E}"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D4B600-1F1E-4AC0-A2D0-89D2EE7F4D4C}"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DFE386-5151-4E7B-BCF5-9A9D6F703768}"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3C17F1-C245-4545-A71A-95A6A6FA9460}"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C01D0F-1F45-4C6C-9B6B-8A2D2CD661E4}"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A813DA-05DA-4A62-9BB3-14B9D80FF47F}"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585E26-90E2-4B6B-AC76-859A91858E12}"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F11D7D-5880-4CBC-9BF7-D6983D2C2329}"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CD5A15-A57B-44B4-AFEB-CA87B80B31F2}"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90FEDE5-0306-4545-8D08-55A5F1F20EF1}"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E08A5C-8B4C-4276-8736-BA811D645E6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9746CB-2779-4AB0-BB9E-1671FA90C4C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1844EB-BB58-4967-B35C-50992814DA1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47F8E7-DBA3-4BC7-8897-47F684BB983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22FDE2-6D13-4E43-86E1-D3164BA1B67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723D67-617E-4533-A067-65ECD7EC006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77D828D-4642-4EC2-B2C2-05F88FA7121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750DE6-C59A-42C5-9F73-2BD5F7367DB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BB349F-E6D9-40A1-A536-A6C67EC1149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17A97B-0B70-40B5-A356-8239927B3EF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FC2426-F24B-4175-82B9-FD31C66C97F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AA4D1B-C064-4455-AE6D-5E57107B262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F7D7C2-346A-415A-8F88-4DF24B96659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359D87-01AB-430A-9EB7-1FDABD6B4BB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9E1F8A-9D86-4A98-9AC3-0AA9D526057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F98336-B80D-4601-91AF-3C43F22E066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598018-140B-4A90-8051-84307517B53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5D0264-6A0A-4A54-B394-4305BE6A35E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DA6313-B7A2-440B-9BEA-CEA75F56974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FDB934-4069-4965-BCED-49EE3C28C1A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D9F88C-787B-40A7-A914-DEEF0712AC9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CE56AA-632F-46D7-9C45-FAFC07C8187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59814F-B14C-4BC9-936D-CFC2DB3DBCE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B31000-0FEC-49E5-B461-B1C568E9E99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B11E79-9B0B-437A-9CC3-5504D2F40D6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800807-8DD3-440A-A488-F22065B7CB6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53DD08-8CCD-48E7-8D39-A6FF2863B65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F26A8C-D1CC-4AB9-85E8-99F1D6F97B0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69D916-B016-4408-9647-0D794BC813C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25127B-4196-4C07-882B-D2F37416FA3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D61D08-CDC6-4242-A358-75597B3868C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4C2DF2-9355-43C6-BC48-3A5C1B18AAA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D9A8B6-F626-4AC1-820E-04400C7DA65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726028-8340-4B23-9003-0FF7E685E80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9E332A-1A0D-4A8F-9D23-F46AD9CE4DE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E673DB-FD7A-4525-855C-D68841E9FC9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B309F1-9CB6-4F88-AD89-A3F184A3F9A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FEDA9F-3123-4C5F-872B-5A59437D6CE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637F72-D228-46EE-9572-61A373F714F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687E31-D7C1-44F4-AEE1-0D0F8562437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FF5291-2837-4716-AC49-F59766616EB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145A5E-EE78-41BF-BA40-9D6275B0F1E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4A5011-012A-4414-AD1F-09042FC5EBC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6E1605-4DBE-4726-BE7D-D8408B2C763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DE5413-6961-43D2-9DD4-2959A97A93C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8D9F17-2BB0-4F38-AC7F-2EAAA3E50E3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4C0665-EE98-4C0B-BF15-BAF9BB73475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70A62A2-4C7E-4BB5-A4A6-D7A378C0C3F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871644-B754-462D-B82E-AA4FD2E9F6D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1CEE1B-7808-48E5-999E-C723F969EDE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E7DBF5-2706-4FA6-B68D-EDDB93A8BED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3CCC75-D2A4-47F4-A3F2-67ED1BFB5BF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F14B77-17E9-4730-823F-207C5036AB6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9675F6-5F23-4A2C-AC69-71832ACCC59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16A1EB-3A89-40D7-9D4A-5F08E5FC5B1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7D08F3-04CF-472C-82C7-7E5EC0B134E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E1E6DDB-F198-46CA-869D-8C365A4233B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E28774-B199-4298-BF0A-AA801E9C044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D17592-03FB-4514-AA54-DAAE49C01F8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A7D095-1732-40E0-9D29-30914BD7111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A35BD9-93C9-427B-9DD5-913F38E211A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174E59-79B4-47FD-AE0D-1B1928D01F8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5054D4-F733-4A8A-873D-C31E1523D81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907C26-9E80-4B61-A11B-15918AF3E7D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80C832-0A18-42DA-8990-98C4BCF45C9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89C9E4-F639-4E2D-B2C4-FD19CE1EC50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0F5575-87E3-486B-8152-72D042776F0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DB067C-2185-4B31-85ED-E751A97EBF6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9D5B87-DD41-4A5D-90D8-33577F47ECA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8653EF-22E2-41CB-AE73-1F7E911B92A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4D8725-893E-494F-9687-1B5F10FA601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0B5D6E9-FA7A-4A1F-A93B-DA1CD08AB58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BBDD91-094C-481F-89C5-7F609313604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39794F-8ADC-4CC7-815E-ACD5A948B6E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72AB4D-8F49-419D-9438-A40EBF29D66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0BE57E-CDAF-482F-95C5-A9E42510C69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2D2C7F-A39E-4BD0-A1AD-B764C56C2D5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888746-A52F-49C7-ABD4-57601B44FFB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A414A6-362D-490A-B9EF-9CE8B0EDA0B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407C65-4E58-4A29-9AC1-CE7724D0AC9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F997F7-64CB-410B-A221-F95310E7BF2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004307-0CA6-47CE-9221-C968D6D37CA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C0CB3F-21CD-4FAB-A7BB-B9562CE57F8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C060F6-E661-4365-B526-E8C88F749A9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BFBBD3-8893-4F1E-AABB-CBEA2334A52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