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6AAEB-C05B-4951-9AF2-839859FE8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52B00-1C25-4EB1-A34F-A832D7BEE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BC81B-8D7E-4147-B1AF-FD452CC79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2D09D-CD55-4CBB-8898-E7B34F136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1DED7-F1D4-4B53-874F-B4680E1A1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EDA40-9621-4815-962A-69B163FCD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441DC-D3FC-4069-97EA-7C7764351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5C7F3-E630-451C-8999-3B2EEE4A3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17007-588C-469D-915D-161CDEFF7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8F4EF-58E5-403D-A900-87DEC97C9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385AC-8B80-4C6E-BCC5-0BE57D97E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ED8B6-BDC8-4BD0-976C-6921C6C05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5002999-30EC-43FE-BB73-63792FA6147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C51093-8848-4CC0-9FF7-6EA55FC9F7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rome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ome te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4T21:58:53Z</dcterms:created>
  <dc:creator>Deepak Gopal</dc:creator>
  <dc:description/>
  <dc:language>en-US</dc:language>
  <cp:lastModifiedBy>Deepak Gopal</cp:lastModifiedBy>
  <dcterms:modified xsi:type="dcterms:W3CDTF">2010-11-24T21:59:21Z</dcterms:modified>
  <cp:revision>1</cp:revision>
  <dc:subject/>
  <dc:title>Chrome test</dc:title>
</cp:coreProperties>
</file>