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26022"/>
        <c:axId val="55351201"/>
      </c:barChart>
      <c:catAx>
        <c:axId val="32326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51201"/>
        <c:crosses val="autoZero"/>
        <c:auto val="1"/>
        <c:lblAlgn val="ctr"/>
        <c:lblOffset val="100"/>
        <c:noMultiLvlLbl val="0"/>
      </c:catAx>
      <c:valAx>
        <c:axId val="55351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26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8BF5-8124-46CA-A8BA-071ED359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2179-F6AF-4CCB-AD2B-44DA4DBB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56A-D3A6-4AB4-AAE5-C3C5951A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0C1-3B37-4DC6-9A91-24C23303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9BA-1C3B-4C7F-839D-3E4D0B09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DFB-3E4E-4865-867A-772C9F39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3F6C-1816-48B5-BDF2-05CE3794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B93-F8E3-4BC3-B4E9-3C979438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6CB-F488-4F8D-96EC-4D21DF5F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B883-45B8-4408-970E-CCCD09ED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85F-71C7-42C4-83E4-F9A48B03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2DF-EB52-4198-BBAB-3ACB96ED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B61A4-12A2-47A2-A777-083338D857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