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24019"/>
        <c:axId val="23891778"/>
      </c:barChart>
      <c:catAx>
        <c:axId val="20924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91778"/>
        <c:crosses val="autoZero"/>
        <c:auto val="1"/>
        <c:lblAlgn val="ctr"/>
        <c:lblOffset val="100"/>
        <c:noMultiLvlLbl val="0"/>
      </c:catAx>
      <c:valAx>
        <c:axId val="23891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24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786-D100-4184-BF86-2CA5C1B1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A00-61D5-43AC-9D96-C2C90B96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480-A87A-4CE9-B1B1-6C5D6987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CA9-FCB3-4B2B-8C47-DBC1296B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9C7-E36D-40FC-8ED5-F1A6CA3E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209-B66D-44F6-BF86-86D5184D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C79-C50E-4382-8D0F-DEE3D943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D4D-5AA7-4B1E-B3E3-7C0ED574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8C7-CA90-4D12-B8A0-6755B72F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D68-8F92-4809-8DA1-7C827D0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6C0-4387-45EB-8ECF-2A571789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7CA-805C-4B35-9E3E-0A87B0F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F34F-F54B-4DD5-8499-6D2321EE5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