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12673"/>
        <c:axId val="92294881"/>
      </c:barChart>
      <c:catAx>
        <c:axId val="94512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94881"/>
        <c:crosses val="autoZero"/>
        <c:auto val="1"/>
        <c:lblAlgn val="ctr"/>
        <c:lblOffset val="100"/>
        <c:noMultiLvlLbl val="0"/>
      </c:catAx>
      <c:valAx>
        <c:axId val="92294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12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2A4-95CC-4D51-BC14-B0BB6BA7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4B2-193D-4B47-BFB0-B9BA4D70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E08-F247-4429-86D3-786FDB15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F5B-7C04-40CD-9646-2E24C495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B80-B1F2-461A-A6B6-9BDF2F73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E3A-D3C7-430F-83B1-FDD278A7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C09-1A82-42B5-BA1B-8A82312E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9D8-947C-450E-95BA-F2B3E999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D56-AE99-4A0A-B75E-DB6E018F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3CE-87DF-48E1-BC7F-B50A2814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216-81F5-41EA-85E5-547E2A14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8C8-57E9-4619-970E-8EAFC202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6B05C-2075-4D67-8005-B767937575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