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42356"/>
        <c:axId val="77385078"/>
      </c:barChart>
      <c:catAx>
        <c:axId val="68642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5078"/>
        <c:crosses val="autoZero"/>
        <c:auto val="1"/>
        <c:lblAlgn val="ctr"/>
        <c:lblOffset val="100"/>
        <c:noMultiLvlLbl val="0"/>
      </c:catAx>
      <c:valAx>
        <c:axId val="77385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42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983-747E-4DBC-95FF-40B3AB00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DF2-99C3-4DEC-BEED-25EC70D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7E1-8D00-4B8F-BBB0-398A5569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0EB-4341-48B4-ACF2-94A6EE38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440-71C0-4D26-80FD-690AF69E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D45-F761-4AE1-A4BB-3DD9A188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F5B-7D27-4668-BE4B-EE42CA72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E72-B416-44F5-9546-BCBA0DA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3E2-951F-4AAD-AFFA-DE3F72E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CBE-BD5F-49F7-829A-51DE851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8BA-46AD-4672-ADC4-0C370B1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E95-7DA4-496D-B585-2B7A3DE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E33EB-E551-4422-81DB-22E8B41BB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