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842380"/>
        <c:axId val="80682979"/>
      </c:barChart>
      <c:catAx>
        <c:axId val="638423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682979"/>
        <c:crosses val="autoZero"/>
        <c:auto val="1"/>
        <c:lblAlgn val="ctr"/>
        <c:lblOffset val="100"/>
        <c:noMultiLvlLbl val="0"/>
      </c:catAx>
      <c:valAx>
        <c:axId val="806829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8423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3325-6D53-44D5-B137-8458D49F6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045F-8B03-4FFC-843B-40AA6DD2D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6192-A29F-43A7-A5C3-233B0414A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6ABB-D685-406D-BACD-DDA9CAE36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E30E-D259-4707-980F-54D4F50B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5D17-1450-4277-A672-E62D92CB4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2509-FB18-4267-8A27-389E3A400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ED61-076F-4088-9D49-FBCD107EA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E5F8-53A5-4F25-8AF7-048861A7B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6E38-CC89-4D85-95B7-04A5BE1C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1013-126E-459D-ABBD-36F18180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7712-09A3-4FCB-BC03-E36AC267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DD16C0-C597-48DB-A88D-D9634262242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