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93913"/>
        <c:axId val="30821824"/>
      </c:barChart>
      <c:catAx>
        <c:axId val="92993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21824"/>
        <c:crosses val="autoZero"/>
        <c:auto val="1"/>
        <c:lblAlgn val="ctr"/>
        <c:lblOffset val="100"/>
        <c:noMultiLvlLbl val="0"/>
      </c:catAx>
      <c:valAx>
        <c:axId val="30821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93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544-BACE-4021-9133-5590D5E2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A2B-CB12-4914-AA2A-89F77951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053-D68B-4011-83D4-1E916DD2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3EB-E9CA-4B2E-BC8F-25894979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B96-1F6D-48D1-810C-4A02AED4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DA3-9850-43D2-AF50-0FD6EEBF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D23-DA7F-40C0-8D54-995BC066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B63-4262-4FF5-B45D-E168327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25E-0284-47B8-9CA8-832FB2B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C09-9E5D-4E55-ABFB-D68B6F5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B46-1369-4E82-994E-54709F3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2FA-5D83-4328-B8E3-11D9506E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92B86-8EAF-4010-93E6-F5D4F50A1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