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81900"/>
        <c:axId val="87786665"/>
      </c:barChart>
      <c:catAx>
        <c:axId val="64081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86665"/>
        <c:crosses val="autoZero"/>
        <c:auto val="1"/>
        <c:lblAlgn val="ctr"/>
        <c:lblOffset val="100"/>
        <c:noMultiLvlLbl val="0"/>
      </c:catAx>
      <c:valAx>
        <c:axId val="87786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81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08F-9F62-4E1B-99F7-5C552F04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B71-775C-462D-AD45-6CA350EA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793-6CA9-439A-98EB-ECF61656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AC7-8549-478B-95C7-C3C77DD6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230-93A8-48F8-9AD6-BA33A18B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0FD-4A5F-47A2-A301-36D0ED21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915-F726-4D05-B404-46D660D9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83B-ADB1-44CC-9035-BCAC162A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F4F-3419-403B-88F0-0D0FA237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235-19B7-4983-B606-4089D1F2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698-5864-41F3-8AFD-0A4B86FB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C75-9E67-4628-A760-D1D6CC8C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DBD3C-77FF-4EB8-85BD-723E2F7C91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