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478840"/>
        <c:axId val="74435251"/>
      </c:barChart>
      <c:catAx>
        <c:axId val="544788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35251"/>
        <c:crosses val="autoZero"/>
        <c:auto val="1"/>
        <c:lblAlgn val="ctr"/>
        <c:lblOffset val="100"/>
        <c:noMultiLvlLbl val="0"/>
      </c:catAx>
      <c:valAx>
        <c:axId val="744352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788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271C-8B27-4607-94A2-702BAABB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5D4-C49A-4779-9C50-DB5D2854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C28-6FB4-4E66-A764-DFF0B50D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EABD-E5A7-4147-939C-A1401078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E9B-A0DE-43B7-9094-392B780E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D6F4-3309-4BEF-BA1C-9B4B2B8F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C9A3-0208-4DE8-AF69-F0F87845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A2AD-2445-4FED-9593-7E3B786F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11DA-51F9-4648-9FC9-456BC948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449-4594-4354-BA47-50975373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CAA8-C671-45EE-A4C8-DCABD9B0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4DC-B49F-4817-904F-DFABF1C8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70F06-FE6D-4723-8D84-CDF56DDB8F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