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56808"/>
        <c:axId val="83963050"/>
      </c:barChart>
      <c:catAx>
        <c:axId val="47156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3050"/>
        <c:crosses val="autoZero"/>
        <c:auto val="1"/>
        <c:lblAlgn val="ctr"/>
        <c:lblOffset val="100"/>
        <c:noMultiLvlLbl val="0"/>
      </c:catAx>
      <c:valAx>
        <c:axId val="83963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56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0D4-F2B1-4F4C-9686-EDC71717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8F3-F658-441A-830C-0FB79868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C20-49F1-4F37-8E75-D6A1B856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9E7-CAAC-45D6-8BFF-FDEE2747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5F0-6C6B-4BE0-916F-611297AE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4A9-DF7E-418D-810C-D5E83BF8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522-CACB-41DA-915E-83264B6C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9C4-22D5-4FEC-B0F8-62C13F60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447-5C90-4E2E-B236-EA2ABEE4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B9F-17E6-4CE2-B9D1-0DF8A8C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035-788B-4676-A7CB-B151444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874-E456-43C7-A207-BEE0B40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9251B-CBD1-4A5E-907B-7BF998C9E8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