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81901"/>
        <c:axId val="10921844"/>
      </c:barChart>
      <c:catAx>
        <c:axId val="55981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1844"/>
        <c:crosses val="autoZero"/>
        <c:auto val="1"/>
        <c:lblAlgn val="ctr"/>
        <c:lblOffset val="100"/>
        <c:noMultiLvlLbl val="0"/>
      </c:catAx>
      <c:valAx>
        <c:axId val="10921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81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AC8-3361-4B3C-923E-141AA58C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BBF-4826-47C7-88CC-0673B9D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C19-2C70-40C2-960E-07B652D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609-497D-4E3E-BC30-934C55E0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F2B-09A4-4EC4-978F-2A3F17D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FDA-6E4A-4865-81A3-EE800131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BEA-5E53-4D69-A2E1-52A3D75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6CD-A473-41C1-A04D-DB5404F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14F-8504-46EF-B9BD-AE808EA9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03-1896-4FBE-9AA4-A94AAC4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C70-84A6-42EB-943C-3F58C51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C44-D708-4816-86E1-1E385D5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F3BF5-379C-40D2-A769-A12BF86804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