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74313"/>
        <c:axId val="95971826"/>
      </c:barChart>
      <c:catAx>
        <c:axId val="95174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1826"/>
        <c:crosses val="autoZero"/>
        <c:auto val="1"/>
        <c:lblAlgn val="ctr"/>
        <c:lblOffset val="100"/>
        <c:noMultiLvlLbl val="0"/>
      </c:catAx>
      <c:valAx>
        <c:axId val="95971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4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9BC-F835-4C83-934B-2BA6A606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6A1-0CB9-41C8-AD24-1487C79C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118-9A57-4D20-9BAE-C5728B5E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DDD-C889-4ECC-B1A9-378BAA67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F6E-4CD5-4C43-9613-5DCC6639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C13-8F4F-48C4-94FF-4D684398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BCA-58EF-4FCB-90B8-E6AC4C5C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A97-3455-4139-9ADE-AC28A53C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CD1-301F-4026-A24E-374E3F1F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37A-3A06-4A68-9DE2-D365177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415-3B26-4478-8329-A06C5C9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247-8273-4446-B70B-5093DA9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F0559-180D-40D9-95B7-FE58CE3DE8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