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58498"/>
        <c:axId val="53021447"/>
      </c:barChart>
      <c:catAx>
        <c:axId val="53758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1447"/>
        <c:crosses val="autoZero"/>
        <c:auto val="1"/>
        <c:lblAlgn val="ctr"/>
        <c:lblOffset val="100"/>
        <c:noMultiLvlLbl val="0"/>
      </c:catAx>
      <c:valAx>
        <c:axId val="53021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8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7BC-7216-40AE-9EF2-180DB2DF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5EC-E3AA-4A2E-BBA8-9B7C7355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964-C9C8-46E9-BD2E-E3F11D02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06D-74AE-4CB0-98C9-496E86F7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51C-5572-4B19-85F4-26E390A6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5CD-E813-4C36-9157-301EB5F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F6A-686B-46BF-9F48-1774E04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F26-71D6-49B6-B143-41DCA27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299-AC74-4AC4-991B-37529B72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62D-6A90-4EA1-BAC6-37F16F1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E4F-7BEE-43CC-BC90-7B8D819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784-84D3-4554-BD2F-D487D0C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E9093-91AA-405F-8C73-88A1F703BF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