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47766"/>
        <c:axId val="8819474"/>
      </c:barChart>
      <c:catAx>
        <c:axId val="91847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9474"/>
        <c:crosses val="autoZero"/>
        <c:auto val="1"/>
        <c:lblAlgn val="ctr"/>
        <c:lblOffset val="100"/>
        <c:noMultiLvlLbl val="0"/>
      </c:catAx>
      <c:valAx>
        <c:axId val="8819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47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A07-A4D4-4532-B88D-9E19DF37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8D5-4B22-473A-B7E5-01453940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339-F4C2-402D-9715-9C124E8D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633-2592-422A-B42C-D67A16B3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D09-9A2C-486F-BD71-DE11EBD6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C21-C3FA-4A46-825F-19CE089E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A2D-9E4C-4F37-A641-853C4376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481-83BB-4BBF-9680-F2AD742B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4EC-1455-43B7-95B2-368AB295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3CF-B1DA-468F-B867-826AACB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0B9-F51B-406B-B66D-C8D2AE08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01E-080E-4E3F-BECF-C8C169FB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04DFD-E3C9-40BD-93CB-3CEB0FF59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