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88415"/>
        <c:axId val="47432369"/>
      </c:barChart>
      <c:catAx>
        <c:axId val="24388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32369"/>
        <c:crosses val="autoZero"/>
        <c:auto val="1"/>
        <c:lblAlgn val="ctr"/>
        <c:lblOffset val="100"/>
        <c:noMultiLvlLbl val="0"/>
      </c:catAx>
      <c:valAx>
        <c:axId val="47432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88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859-D898-473C-B445-9E92D24C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7CA-9318-417F-AFAC-3EF58AAC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183-EE9C-4E61-83A7-2828FF79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1F4-A51B-4978-AB45-F7F74596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13B-EEAA-4686-B069-1B942E5D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029-CBDC-4447-BAED-9DFD8DC6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8E0-AE83-4AA7-A4B0-A34FAD49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D85-6CBD-4AD2-963B-0EBD4BEC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772-9F5D-4E6F-B597-1F825168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F6B-8737-4D1A-BB3C-618F4D67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75E-7494-4EEE-9A3F-AB084A85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04D-B3D0-4AE7-9B17-AAEB809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86CC7-9ACA-4DCD-A332-FAFC1299E7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