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73723"/>
        <c:axId val="71320937"/>
      </c:barChart>
      <c:catAx>
        <c:axId val="21973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20937"/>
        <c:crosses val="autoZero"/>
        <c:auto val="1"/>
        <c:lblAlgn val="ctr"/>
        <c:lblOffset val="100"/>
        <c:noMultiLvlLbl val="0"/>
      </c:catAx>
      <c:valAx>
        <c:axId val="71320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73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140-82EB-4D17-9632-F81EDA08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C55-744C-4B97-B8B5-AB6FF69A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155-4542-4D6C-AAC1-490790BC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EE6-EFAC-4F34-8D86-EC53E347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B42-9EF4-48BC-B24C-2391177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84A-5C53-4DA4-8417-7BB1EA80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E62-D4AE-4C62-84E3-C7C357D7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EA3-A45C-4687-B2E6-9C677CB1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BF3-31FC-49DD-BC51-52926EEA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D5F-5FF5-4FDA-87DB-72B2009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9D9-7FE3-4A05-A319-B07E2D8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C1A-CB88-45AC-8085-1EE153E3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0FE4D-4B79-474A-ABD4-4F1053BAD8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