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58188"/>
        <c:axId val="88124537"/>
      </c:barChart>
      <c:catAx>
        <c:axId val="53458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24537"/>
        <c:crosses val="autoZero"/>
        <c:auto val="1"/>
        <c:lblAlgn val="ctr"/>
        <c:lblOffset val="100"/>
        <c:noMultiLvlLbl val="0"/>
      </c:catAx>
      <c:valAx>
        <c:axId val="88124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58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3E8-3FCF-4D54-A1F7-6D96BF1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E29-4D8B-4D03-83E4-F231CBF9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C26-99C1-4E5B-A71E-FAB7A632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45B-EC4A-48A7-AB8C-332870B1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A52-2BA6-4454-B279-30BC8E9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8DF-40EE-4FC7-8FB1-E2AD557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BAC-9958-4141-9BDD-34D5810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5BF-19FA-4AB1-AA09-C699832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A47-FA63-45A0-8B97-F300ACC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A89-5F68-4327-BDC5-7F39FD4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36E-8D68-4A33-A40C-2E45EFFE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E2B-5605-495C-8345-A7C59E5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8346-194E-44E4-8AC2-E0DF33D50F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