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75978"/>
        <c:axId val="49874596"/>
      </c:barChart>
      <c:catAx>
        <c:axId val="90475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74596"/>
        <c:crosses val="autoZero"/>
        <c:auto val="1"/>
        <c:lblAlgn val="ctr"/>
        <c:lblOffset val="100"/>
        <c:noMultiLvlLbl val="0"/>
      </c:catAx>
      <c:valAx>
        <c:axId val="49874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75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0B5-1EFE-44DD-BEEC-6DA141C0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F66-90D1-4550-8BE5-B8BF4FE0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459-126D-4D33-BDC7-587D32D3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2C3-54A5-415E-AECD-86A67F5A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0EC-901A-4D32-BD95-979E1885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40D-4555-4FC9-B753-36872A00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2A8-4CE1-4883-BDBC-70722828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3B1-0846-4603-A4E8-8D6EDE2D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49D-8956-44D1-A658-BBBD803C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3E6-B9ED-4FB5-94C7-6AEA17E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66E-9779-47DF-BF30-BEDDD0BD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DF2-B81F-4D54-AD8D-3E4FFEC9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7E3D4-4490-48E7-BDE8-2C2A488820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