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29351"/>
        <c:axId val="89822174"/>
      </c:barChart>
      <c:catAx>
        <c:axId val="39029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22174"/>
        <c:crosses val="autoZero"/>
        <c:auto val="1"/>
        <c:lblAlgn val="ctr"/>
        <c:lblOffset val="100"/>
        <c:noMultiLvlLbl val="0"/>
      </c:catAx>
      <c:valAx>
        <c:axId val="89822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29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139-09C0-4C17-88C2-CEE1D2BE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929-F130-4BC3-8639-C5CAC375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B21-E8EC-4D61-A011-70E12B8B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B23-2E2C-47B9-9BA9-EB283806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FDA-CC20-4ACC-AB92-5A883068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E7B-6B82-42BD-91CA-BA9E9506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F26-2635-4778-9BAC-084CF138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94C-25CC-40A1-8C35-89BC532E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C36-AC35-4F90-B231-DB3D836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D76-822E-4245-8A9B-7E90A72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3C3-7CDC-454C-986A-29EC43ED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897-2D52-4183-9E0B-78CA1FE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426ED-C065-4A59-AF27-FEB3FBC53B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