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041476"/>
        <c:axId val="21498764"/>
      </c:barChart>
      <c:catAx>
        <c:axId val="280414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98764"/>
        <c:crosses val="autoZero"/>
        <c:auto val="1"/>
        <c:lblAlgn val="ctr"/>
        <c:lblOffset val="100"/>
        <c:noMultiLvlLbl val="0"/>
      </c:catAx>
      <c:valAx>
        <c:axId val="214987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414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DEDB-7878-4C20-8915-C29E2205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9EB2-D375-486D-B8C1-B115B1F3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40B-391A-4D5B-B185-A1998EC1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C34E-D124-49CD-B8CF-005D609F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9407-2719-4DD3-8261-4BE21F33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A82D-9ACA-46C0-9EED-DB83CC0A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C776-A522-4789-B8BD-BCF9B417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61B9-DFD5-4E4E-865B-3B3A2BF0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DDF4-B35B-48EE-A0C8-4B13AE03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81D-7CF2-49F0-B473-166A56AF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413-654E-4647-9CCE-071FF32C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1D08-0C7E-474D-8649-ECE552F7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ADAC9-757E-400F-A872-0F5873EBFD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