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31692"/>
        <c:axId val="78645550"/>
      </c:barChart>
      <c:catAx>
        <c:axId val="20531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45550"/>
        <c:crosses val="autoZero"/>
        <c:auto val="1"/>
        <c:lblAlgn val="ctr"/>
        <c:lblOffset val="100"/>
        <c:noMultiLvlLbl val="0"/>
      </c:catAx>
      <c:valAx>
        <c:axId val="78645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31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A42-F8D0-405E-BB5A-C1229061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6C4-A08F-4CA9-B5BF-75916312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74B-9BEF-4128-AFD7-B88C4CCA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35D-B3B8-4E2A-97B8-C6F44F14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9CC-CC38-4511-99D2-58E4A1FB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763-D22A-48DA-8810-133E7F44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9FE-901B-44DA-A658-C208A731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B4D-8017-401B-9F03-9AA01B5B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757-DC46-4F01-9499-73236F7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78B-6616-4478-8A4E-26A8A7E7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1AF-7707-419F-A379-6E5D778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B8D-B5B6-428B-A71C-630F5AD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2263F-0A2E-484C-B03F-F353BA0CB5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